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519F-16ED-4D52-9E1D-FF9FE1D591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4561-50B3-41AB-BEC9-C388172B5A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E8B-5462-4C94-AD4F-723F79A6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A57-EB3A-41F4-A47F-F5555850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BDD-17BC-4147-AF09-867BCAD0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A48-332D-4AC7-9690-DADFC20A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49A-3F16-46C7-8E4E-AF3A1469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8DD-6AF2-47B2-96CE-C280E791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CCD-AA2A-4E58-870E-89BDD4C3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F5A-B57C-4153-AB1E-BD2C42EE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988-163F-46E6-AE69-DDDB1059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327-6028-44CE-A116-F34AEFF5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439-FBDC-43AD-8697-628FF8E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79A-987D-4E8A-8832-6C7361DD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03B8-5F08-4CE0-BF68-1D9282878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is is 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18:18Z</dcterms:created>
  <dc:creator>Olivier Descout</dc:creator>
  <dc:description/>
  <cp:keywords>JUnit</cp:keywords>
  <dc:language>en-US</dc:language>
  <cp:lastModifiedBy>Torsten Henschel</cp:lastModifiedBy>
  <dcterms:modified xsi:type="dcterms:W3CDTF">2016-10-21T12:20:17Z</dcterms:modified>
  <cp:revision>3</cp:revision>
  <dc:subject/>
  <dc:title>This is test title</dc:title>
</cp:coreProperties>
</file>