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E353-3337-4C3D-8F2C-6E5B4CE0C6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5D4-9A59-4583-85ED-F5968300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B6F-362C-47ED-B576-EF3ACE17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DA4-A61A-4A45-9B9F-FD7AC9FE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2D3-8F73-4A0F-A03B-82B95F65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4AE-62C7-4B31-AB2E-CA2D577B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C2C-EB62-4711-9058-68AFCABE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57F-33AC-4938-9639-3FEF4C01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0B2-B241-4A58-BE2E-FF5FA621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66D-6C62-404E-9710-E3FA2BFE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F28-11F5-44DC-9A76-5FBD0FA0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7C2-4D5A-4943-9F99-9D5754D7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E8A-D959-40C5-B98B-AF3D17DD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3240-D1BA-4DEE-8D7D-183FDB2F70F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30:22Z</dcterms:created>
  <dc:creator>Olivier Descout</dc:creator>
  <dc:description/>
  <dc:language>en-US</dc:language>
  <cp:lastModifiedBy>Olivier Descout</cp:lastModifiedBy>
  <dcterms:modified xsi:type="dcterms:W3CDTF">2016-08-31T19:32:38Z</dcterms:modified>
  <cp:revision>1</cp:revision>
  <dc:subject/>
  <dc:title>This is test title </dc:title>
</cp:coreProperties>
</file>