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27B745-18B2-41AB-B3F7-163C7B42F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ier Descout</dc:creator>
  <dc:description/>
  <dc:language>en-US</dc:language>
  <cp:lastModifiedBy>Olivier Descout</cp:lastModifiedBy>
  <cp:revision>0</cp:revision>
  <dc:subject/>
  <dc:title>This is test title </dc:title>
</cp:coreProperties>
</file>