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A4D80-DFC9-48F4-B44F-467C0B630A7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his is test com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E4301-BC23-4958-A6AA-C469AA53A6F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003D-72AB-414A-A38A-78BF2AD9A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5036-55BE-4D3D-9331-6FB8DE08E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6AEE-7384-433A-B67B-8A4717691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8812-E254-43B2-A5E0-95440134E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23EC-67E3-4E29-98AD-2F3793748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400B-7C23-4E39-B003-CB1F9F3B4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B1BC-8B79-4A0A-8420-091E31552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C7C6-8446-417C-A600-126EA03D4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2F72-70F4-4B43-87A0-81047DCD6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4E9D-A2BA-4DF9-AF52-06FE4783E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32D2-E21B-4240-B201-91E10547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9BD0-F4EF-4B22-9785-A8EEFFABC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8F2E9-F941-4F97-99F5-0C981E8BC0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his is test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This is test cont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31T19:18:18Z</dcterms:created>
  <dc:creator>Olivier Descout</dc:creator>
  <dc:description/>
  <cp:keywords>JUnit</cp:keywords>
  <dc:language>en-US</dc:language>
  <cp:lastModifiedBy>Torsten Henschel</cp:lastModifiedBy>
  <dcterms:modified xsi:type="dcterms:W3CDTF">2016-10-21T12:20:17Z</dcterms:modified>
  <cp:revision>3</cp:revision>
  <dc:subject/>
  <dc:title>This is test title</dc:title>
</cp:coreProperties>
</file>