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4654-41B1-463D-AC65-91D5EF6A4B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is is test com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25A9-C88C-4027-A328-D1E22CC62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7C16-D7EB-45AA-B061-EE9BF68F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3803-AF05-4E63-9969-FC3B935E0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1E46-9991-4F85-ABF0-03FA9D9EF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64CB-BD05-44EE-82E9-C3EE7596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70DE-7455-4E6C-8805-7C3B8600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4D1B-42AA-4DD4-B5F2-4C33BD17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9998-AA55-41B5-BDBD-BD10617C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F5BF-292E-45C4-A5C1-2B88C763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B010-665C-4CC9-8A82-03150228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2260-FE51-4547-80F6-7A6C3E6D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9C39-22B1-4E37-BCC9-A87516A8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D7E2-18E9-4E4E-8ED6-A4421755737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is is test ti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is is test cont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31T19:30:22Z</dcterms:created>
  <dc:creator>Olivier Descout</dc:creator>
  <dc:description/>
  <dc:language>en-US</dc:language>
  <cp:lastModifiedBy>Olivier Descout</cp:lastModifiedBy>
  <dcterms:modified xsi:type="dcterms:W3CDTF">2016-08-31T19:32:38Z</dcterms:modified>
  <cp:revision>1</cp:revision>
  <dc:subject/>
  <dc:title>This is test title </dc:title>
</cp:coreProperties>
</file>