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FF52-11F5-41A7-9551-3FB370FD50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E6C5-EAA0-4807-8CA7-0EA55E1BFF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E1F-EF87-4D5D-A62A-B213F7F6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FB9-D744-4FAA-A3C2-F542A3BC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57A-EF32-4E10-9638-7586B311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4B3-A97B-43CB-9D4B-BFB0B708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6FB-F7F5-48F5-A258-E1669254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2F0-EA92-44BD-ABE6-8FB677CF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F18-72E9-46D6-8763-ABB645F2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920-7749-4F29-9B78-50F7F62D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276-A36A-4FDF-99A0-0672A54F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967-FABD-4AF9-A69C-D4003947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339-CE78-45BE-B9F4-B68EFE2D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103-929E-4469-A440-2B863251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AD70-4F7F-443B-A965-8C83C567D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is is test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1T19:18:18Z</dcterms:created>
  <dc:creator>Olivier Descout</dc:creator>
  <dc:description/>
  <cp:keywords>JUnit</cp:keywords>
  <dc:language>en-US</dc:language>
  <cp:lastModifiedBy>Torsten Henschel</cp:lastModifiedBy>
  <dcterms:modified xsi:type="dcterms:W3CDTF">2016-10-21T12:20:17Z</dcterms:modified>
  <cp:revision>3</cp:revision>
  <dc:subject/>
  <dc:title>This is test title</dc:title>
</cp:coreProperties>
</file>