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653D-D007-4A17-9654-1F8A4B679E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6CC-04F7-4A8A-80A7-07EEF612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533-E6D6-48D4-B5E2-2805E186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9B9-34D7-4842-9A84-24ECE663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F21-12F9-42D2-B803-4ADC16A8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4EB-E7D2-4302-B46F-A922D7BB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F4F-3FF6-4AF5-9AA0-80AF3A7A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7AE1-BD53-4938-A7C7-710B89EC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D71-009B-46D5-9E22-9D244E84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DFF-BF29-413D-A980-0E6D1877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C74-CF32-4062-B743-50DE74CB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3E6-AAC0-42C8-A700-1ED3CFD3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73A-4756-476F-8A3C-4591D4E4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D602-B6D3-4A4E-80C5-308076A55AA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30:22Z</dcterms:created>
  <dc:creator>Olivier Descout</dc:creator>
  <dc:description/>
  <dc:language>en-US</dc:language>
  <cp:lastModifiedBy>Olivier Descout</cp:lastModifiedBy>
  <dcterms:modified xsi:type="dcterms:W3CDTF">2016-08-31T19:32:38Z</dcterms:modified>
  <cp:revision>1</cp:revision>
  <dc:subject/>
  <dc:title>This is test title </dc:title>
</cp:coreProperties>
</file>