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C4CB-5AB8-4C1A-8D51-C1DD6D4800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89BF-8030-40B1-AAD7-02C42B505A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989C-7C3E-471F-9CC9-39AC86F8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E94-52CB-4A5A-860A-B9FC55D8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38B-EAB8-4A9E-9F97-9DCF14B3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266-BBF9-4958-A386-F672F63D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F04-3EAE-47B7-AD5A-FD0316F6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E702-80A6-42CA-973B-9F580BB0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02B-C602-480F-A6D1-19924E50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C1C-ABF0-4EB9-A349-673C4E24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D0AC-74E0-4FDC-81DF-3F5F07FF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3E85-DE3B-4277-9EBE-2022DD12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F354-A2B9-48BD-B24C-669252E1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557-BF5A-40DF-ABF8-CA042369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8FCB-7DA8-4AAF-92AA-C172CF32F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is is test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19:18:18Z</dcterms:created>
  <dc:creator>Olivier Descout</dc:creator>
  <dc:description/>
  <cp:keywords>JUnit</cp:keywords>
  <dc:language>en-US</dc:language>
  <cp:lastModifiedBy>Torsten Henschel</cp:lastModifiedBy>
  <dcterms:modified xsi:type="dcterms:W3CDTF">2016-10-21T12:20:17Z</dcterms:modified>
  <cp:revision>3</cp:revision>
  <dc:subject/>
  <dc:title>This is test title</dc:title>
</cp:coreProperties>
</file>