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F29C8-4C8A-4053-9E6E-10EA3309E4F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This is test com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91AC-7BD3-4975-B55F-7935F58C3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5EC1-E554-440B-A775-96D422441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1A1E-1588-4DE0-BF4D-1D84A1618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68C5-CE46-40F0-B5CE-6101C666A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7EFD-80F3-433C-8C50-50367E7CD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C8AD-ADB2-47FE-B91A-5F2DBD6F8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F3B2-C77C-4559-8CE2-C3D73D867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EC22-32A8-44F9-A6C4-0BB168C22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6A84-C642-4151-B33D-324648E5A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D6D9-284F-494B-9F56-8F5228E25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30EB-8FBE-48E3-BF31-6043BCEDE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7A52-E0D4-4E68-8EB1-8D24D6F01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35DF3-23A4-4CE1-A93D-B4A7CA5889E4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This is test tit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his is test cont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31T19:30:22Z</dcterms:created>
  <dc:creator>Olivier Descout</dc:creator>
  <dc:description/>
  <dc:language>en-US</dc:language>
  <cp:lastModifiedBy>Olivier Descout</cp:lastModifiedBy>
  <dcterms:modified xsi:type="dcterms:W3CDTF">2016-08-31T19:32:38Z</dcterms:modified>
  <cp:revision>1</cp:revision>
  <dc:subject/>
  <dc:title>This is test title </dc:title>
</cp:coreProperties>
</file>