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CD54-5C2A-47EB-AB02-9597089E476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his is test com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09FF-23DA-4448-86EC-5AC5BBC80A0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BEA5-11CE-4150-8012-DB8D3A377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9FA5-C262-4014-B88D-DA1237A7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431A-2E19-49C9-B0F5-C4D8E4FA0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C603-95E9-4EAF-B21A-89E772C9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7BB7-E267-4481-A332-132971A5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73A3-C4F3-4CB7-B58E-E0F0F46B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2E00-E33C-478C-A282-B2049CAE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8728-9909-4F17-A4ED-941DCB95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0DB6-8C62-4253-AFF5-47E93321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33A8-C6C5-484B-BA60-227B0C55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F570-8832-47FA-9E17-997DA3BA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053B-ABF3-4C3D-B25A-88EB2827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BC05-E834-4C60-92FC-55C989FD86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his is test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his is test cont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31T19:18:18Z</dcterms:created>
  <dc:creator>Olivier Descout</dc:creator>
  <dc:description/>
  <cp:keywords>JUnit</cp:keywords>
  <dc:language>en-US</dc:language>
  <cp:lastModifiedBy>Torsten Henschel</cp:lastModifiedBy>
  <dcterms:modified xsi:type="dcterms:W3CDTF">2016-10-21T12:20:17Z</dcterms:modified>
  <cp:revision>3</cp:revision>
  <dc:subject/>
  <dc:title>This is test title</dc:title>
</cp:coreProperties>
</file>