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B499-CC54-457C-A6E9-085A8469FD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C620-7F11-455E-8AF7-97401B6DC3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7DA-E9C9-416C-A859-B38A3FAB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E6D-E8AC-4663-9C21-B79CC794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B93-CA57-4161-A3C2-62AC982B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D09-D797-403C-9A5D-3189D97C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8A5-40A2-4D28-BE33-81AC67EA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265-9B2C-4F39-8E0E-E238A179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540-4E07-45F1-B493-C644A651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509-A4EE-45A6-B988-F5A98645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966-6DA7-49E0-B3DC-8C37FA10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B61-5AAA-4E01-A7C7-39E8016A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F2C-5C67-4E71-BB45-63137A39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883-9EC4-4A5E-B0E8-E7F8195B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A607-44A3-481B-9A97-F45EE3603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is is test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18:18Z</dcterms:created>
  <dc:creator>Olivier Descout</dc:creator>
  <dc:description/>
  <cp:keywords>JUnit</cp:keywords>
  <dc:language>en-US</dc:language>
  <cp:lastModifiedBy>Torsten Henschel</cp:lastModifiedBy>
  <dcterms:modified xsi:type="dcterms:W3CDTF">2016-10-21T12:20:17Z</dcterms:modified>
  <cp:revision>3</cp:revision>
  <dc:subject/>
  <dc:title>This is test title</dc:title>
</cp:coreProperties>
</file>