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095D-D8D0-4437-B5B6-010445BF9E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87BA-7C56-4C9F-AB2D-1E8FBCF0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71E-18FC-477B-B370-BDE8D0CE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9E1C-4E16-4EEC-A402-DD6F8812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088-77C0-42B9-B287-16304D49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0E3-1AC6-4DDD-B12E-06836C7B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BFB-C7AD-46A7-A157-409304C4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ED0-3C83-46DD-890F-280DFF75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BD9-88F3-4127-BD7B-DB074A20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3D66-BF07-42C8-97A6-D6C1477D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A25-05D6-46C9-82ED-5047E011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F1A-2421-4AFA-81B2-A4FDA75D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A04-11BB-41F0-A43D-D02D340A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8F7A-02D9-4300-B251-B3E4A7C06F9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is is test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19:30:22Z</dcterms:created>
  <dc:creator>Olivier Descout</dc:creator>
  <dc:description/>
  <dc:language>en-US</dc:language>
  <cp:lastModifiedBy>Olivier Descout</cp:lastModifiedBy>
  <dcterms:modified xsi:type="dcterms:W3CDTF">2016-08-31T19:32:38Z</dcterms:modified>
  <cp:revision>1</cp:revision>
  <dc:subject/>
  <dc:title>This is test title </dc:title>
</cp:coreProperties>
</file>