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E26E-FF57-47D3-A6DB-32ACC96EC8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E008-AEA6-4774-BFBE-F41916A8EF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F74-3845-4B78-9DA0-1FC2AE47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703-B4FD-4C12-A89A-71C2363A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9BB-241A-47E4-AA34-AC6B0E1B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04B-96AC-4D00-B194-DCBED724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A21-69B7-4F58-B90B-46E8B382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F81-458F-458E-8902-040D6490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686-9FE9-4BAA-91DD-067CF97A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8BA-D5D7-4E80-BA81-0A0A9635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6C4-355D-4EED-9EBC-2C994F70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915-E65D-4EF4-BD7C-F98A6A07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D69-B137-4643-9DF5-796B6F6A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3BC-C7DF-42A8-B6A9-208937FD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5F63-7D6C-4A0C-9B7E-77A61D78B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is is 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18:18Z</dcterms:created>
  <dc:creator>Olivier Descout</dc:creator>
  <dc:description/>
  <cp:keywords>JUnit</cp:keywords>
  <dc:language>en-US</dc:language>
  <cp:lastModifiedBy>Torsten Henschel</cp:lastModifiedBy>
  <dcterms:modified xsi:type="dcterms:W3CDTF">2016-10-21T12:20:17Z</dcterms:modified>
  <cp:revision>3</cp:revision>
  <dc:subject/>
  <dc:title>This is test title</dc:title>
</cp:coreProperties>
</file>