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BB6C-A71D-4600-A539-FD13563E1B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04F-E573-41C5-A520-5BAF5601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4A6-D364-42A2-AFF4-6B5E8B1C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1F1-F27B-481B-B1EF-96CD22CF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BE0-4918-4C42-A808-16EA6F56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EB4-A87A-4CC7-81AB-397A323E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F2D-AE87-4A0A-A234-A856205A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96F-8F1F-432C-8C1E-696E244C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ED5-DCEC-4DEF-A100-526A3D69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048-B324-49FB-973F-7EAEB902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F7D-1AC9-48F7-B61C-6FE6EA4D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22F-9C35-44CC-8B70-4191BDAA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D5C-DAF5-4397-9227-740B1603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2E3B-39E1-4821-9A31-EA6CD4EF64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30:22Z</dcterms:created>
  <dc:creator>Olivier Descout</dc:creator>
  <dc:description/>
  <dc:language>en-US</dc:language>
  <cp:lastModifiedBy>Olivier Descout</cp:lastModifiedBy>
  <dcterms:modified xsi:type="dcterms:W3CDTF">2016-08-31T19:32:38Z</dcterms:modified>
  <cp:revision>1</cp:revision>
  <dc:subject/>
  <dc:title>This is test title </dc:title>
</cp:coreProperties>
</file>