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565C-9B98-4920-BA2A-4C16A0DDE7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83EA-C237-426A-8C6D-71210C391E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D2C-FCA3-4465-897C-E02D8DED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1A2-B694-413A-B13F-81B405D5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F25-F9D2-4EEA-98B0-65E2ABE2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1DA-5205-4FB9-ADAA-09B29E08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037-46FF-4922-BD8A-371AC515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55C-4F67-4F36-8F02-2F5CFE04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F7D-D71F-4B59-9DC0-2B205E90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29D-29EF-4595-925D-7B625AC6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479-C3A8-4943-9A89-EFE364FB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459-D0A5-4047-8CC2-5019A942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4C2-9C6A-4C76-B3C4-3BF71DAA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706-B453-4B89-9A9D-88357963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DA32-719C-40EE-90FD-8A81F3163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is is test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18:18Z</dcterms:created>
  <dc:creator>Olivier Descout</dc:creator>
  <dc:description/>
  <cp:keywords>JUnit</cp:keywords>
  <dc:language>en-US</dc:language>
  <cp:lastModifiedBy>Torsten Henschel</cp:lastModifiedBy>
  <dcterms:modified xsi:type="dcterms:W3CDTF">2016-10-21T12:20:17Z</dcterms:modified>
  <cp:revision>3</cp:revision>
  <dc:subject/>
  <dc:title>This is test title</dc:title>
</cp:coreProperties>
</file>